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565-3AE7-4B3D-A7EA-C39A1958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587-17FA-4BA9-AAC8-B810813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FAC-A0E3-4C70-B40D-632AC242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BD6-8DE3-487B-A612-1BD3BA44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F15-AD4F-4C51-BE3A-BB8A499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5D6-6EA1-4B5D-8825-88654BAB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36-D56D-4C0C-BA21-0899143D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D73-F72F-4A0B-B5D0-D27EE3FC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E3A-5A23-4524-827A-233F0BA6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EDF-9CEE-43E3-B99A-EF047336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D09-CE68-4782-8283-63295EC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D94-97C5-49CE-8961-B483A91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F31605C-DC18-4347-8D9C-B6F8D6934629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Under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under-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TE, CNIG-IGN, INAF, MPIfR, NCU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DANTE and NCU received less than 5,000 € for the firs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IG-IGN, MPIFR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partners have had delays in their network construction/installat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10B-564F-427A-B2BE-E4563D94DB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Audited Returns in Gree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147680"/>
          <a:ext cx="6680160" cy="527220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BED-086E-4AFA-86EB-4227F89E91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ed Financia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with Audited Form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K/M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eC/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spenders all provided audited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opies of all audits are in the final re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143000"/>
          <a:ext cx="3925800" cy="4903920"/>
        </p:xfrm>
        <a:graphic>
          <a:graphicData uri="http://schemas.openxmlformats.org/drawingml/2006/table">
            <a:tbl>
              <a:tblPr/>
              <a:tblGrid>
                <a:gridCol w="1211040"/>
                <a:gridCol w="1420920"/>
                <a:gridCol w="12938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926-973E-4ED7-8FCA-3834D24596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ncouraged" audits from al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ugges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o be a valuable suggestion as international auditing expectations required time to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artners who received smaller distributions in period 1 expressed valid resistance to the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EC partners expressed concern regarding a non-standard audit/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process, most partners have been exposed to the intricacies and potential difficulties of the audi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artners ex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ort to com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EB4-F37E-4EEA-AF09-D5564DFA6F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iod 2 distribution (next 18 month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147680"/>
          <a:ext cx="5562720" cy="511488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905120"/>
                <a:gridCol w="1828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eriod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2,0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7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9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9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3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1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3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17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1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5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26,20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5,34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78E-F357-438D-A281-58C6ED0818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D45-D701-4A3C-AF57-E745DFE604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753-A28E-479E-BA99-261DEDDB1D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EC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distribution to partner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% remainder distributed Ma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after EC provides feedback on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en EC report will be delivered, money should arrive "a few weeks"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will again be split into two pieces, 85% and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897-8AA8-4069-9F2C-84C1076BCD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1177920"/>
          <a:ext cx="61722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7920"/>
                    <a:ext cx="61722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A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879-AE40-440F-A14E-D695719DF0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m A Inconsistenc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2, Breakdown of the EC contribution per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3, Financial Information,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0,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72,000 €   (first tran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1,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decided to move forward with a first distribution to participants based on the A3.3 total.  Rounding each partners' allocation to an even thousand, the 18 month figure is 1,226,208 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46B-377A-4124-972B-2CF578DDEB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tail: Historical A3.2, A3.3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7162920" cy="48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041-E8C5-44FD-A6FA-FFFB0CA972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Year 1 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result of the A Form inconsistencies, it looks as though some sites are over/non-spending.  This was explained and clarified to the 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147680"/>
          <a:ext cx="350532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4B0-6B0D-4E85-8093-FC60644FFB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467-0121-4F3C-9680-2EBD56A759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Over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use a short period of idle MIT Haystack engineering time appeared for important upgrades to the Mk5 systems.  A subcontract was established after consultation with our Science Offic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quipment was forward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SIRO and VIRAC will claim their entire three years of spending during the first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 found that their costs were higher than expected and asked to bring forward their costs in response; their internal budgeting will adjust to these costs and the shifted fu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 completed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and SHAO seem to be overspending, but they have executed just over one-third of their three year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DD4-B982-448F-B21F-146E2C2FEA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Non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claiming zero 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ree of the five partners received less than 5,000 € for the fir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ending does not mean non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and JIVE are coordinating the installation and optimization of the next network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has been working closely with CSIRO to install and deploy connectivity to their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7A6-F1E3-4CE7-8BBD-642C500D82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18T09:04:18Z</dcterms:modified>
  <cp:revision>114</cp:revision>
  <dc:subject/>
  <dc:title>Slide 1</dc:title>
</cp:coreProperties>
</file>